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7920" cy="37148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0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2D861-750B-41AB-9403-60B12892F6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58422-56B7-4335-8FE7-68A868149DF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4EFBF-DBBD-4E8B-BC11-611527584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1156D-FFAA-44A7-BFBB-8C148ED64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1B102-9DF4-49F4-B349-421D831465F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47067-641C-47AE-ADA3-91F475DBCB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DA11A-0AD1-44B2-A206-A75F8CC7DD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BCE8D-6BE8-457F-B9BA-49FB17C99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2D663-1DD7-460A-BCD7-7D76E0EB1DF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CC56B-2210-4358-A177-6C728E72D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C9E65-4C00-4DB0-AF20-35562330633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13946-23B6-480D-8D5F-EA61A9988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C6F92-F07E-4EB8-B84D-01E3887052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18549-0731-4689-A024-739C013E8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84F5A-3885-438D-9268-F8758B066F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65E27-7B04-4CF4-BD72-18A87E57C6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70AA3-0153-4F1F-A9CE-37E495EE21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1B4D8-0037-43C7-87B5-E06E272B0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B367C-E64C-4E3F-8AEF-5099A28244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BAAE6-B8AE-48D3-B51B-7823469731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9DBF4-7166-4B09-B765-22718F8B92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DF700-1B26-430C-B4A3-CA8E6DE77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5AF1F-9BCA-4A20-9B64-A201B4E3FB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8D11B-79E4-4359-BB8A-A66C58287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D7926-3F75-41BD-A264-66951923CE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5FE71-86E9-48C9-94B3-766D27FAA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A123B-2009-4726-B9C5-EC64431D7D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1874A-1A54-4EE6-A0F2-AA9B2880F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D77C-6761-4BC2-BDCB-B3932A157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68B8-028E-4E95-A60F-024C817FA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3296-5A0F-46A7-98BD-BBE6063EB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3043-F300-458A-A409-59FBE8317B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1F4A-0A5F-4C4A-A935-84C75210F1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DA39-A696-458E-A14C-D52FF3A10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B2F6-BD5C-40C1-9AAF-7E921EE71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AC21-084B-4EFC-BCA7-36EC1B6E6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604D-6F2C-4A0C-BA7F-48BD36166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8DE9-796D-4353-B31C-DFCA61503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C117-A08A-4BCF-B104-7D249003D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7871-C717-469F-87AC-B1E9CDCC0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05F951-4B0A-4E9C-B7A6-4FAD4F7533E0}" type="slidenum"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БЮДЖЕТ ДЛЯ ГРАЖДАН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МАНСУРОВСКОГО СЕЛЬСОВЕТА </a:t>
            </a:r>
            <a:br>
              <a:rPr sz="2800"/>
            </a:b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03280" y="4508640"/>
            <a:ext cx="835344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 решению Собрания  депутатов  Мансуровского  сельсовета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оветского района Курской области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т 05.12.2019 года № 24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«О бюджете Мансуровского сельсовета на 2020 год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 на  плановый период 2021 и 2022 годы»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68360" y="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Мансуровского сельсовета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17 год и на  плановый период 2018 и 2019 годы в разрезе муниципальных программ 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571680" y="785880"/>
            <a:ext cx="8269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907920"/>
          <a:ext cx="7993080" cy="5761080"/>
        </p:xfrm>
        <a:graphic>
          <a:graphicData uri="http://schemas.openxmlformats.org/drawingml/2006/table">
            <a:tbl>
              <a:tblPr/>
              <a:tblGrid>
                <a:gridCol w="5195880"/>
                <a:gridCol w="932040"/>
                <a:gridCol w="931680"/>
                <a:gridCol w="933480"/>
              </a:tblGrid>
              <a:tr h="671760">
                <a:tc>
                  <a:txBody>
                    <a:bodyPr lIns="90000" rIns="90000" tIns="1688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6884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8г.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6884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9г.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6884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20г.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39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Развитие культуры на 2018-2022 годы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95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9245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9217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 «Энергосбережение и повышение энергетической эффективности в муниципальном образовании «Мансуровский сельсовет» Советского района Курской области на 2018-2022годы»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Благоустройство территории муниципального образования «Мансуровский сельсовет» Советского района Курской области на 2018-2022 годы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74965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85005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16021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 Муниципальная программа «Развитие муниципальной службы в муниципальном образовании «Мансуровский сельсовет» Советского района Курской области  на 2018-2022годы»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 Мансуровский сельсовет Советского района Курской области на 2018-2022годы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Муниципальная программа «Развитие и использование информационных и телекомуникационных технологий в муниципальном образовании «Мансуровский сельсовет» Советского района Курской области на 2018-2022годы»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Муниципальная программа « Развитие и укрепление материально-технической базы муниципального образования «Мансуровский сельсовет» Советского района Курской области на 2016-2020годы»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483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483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483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Мансур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14720" y="3786120"/>
          <a:ext cx="5742000" cy="2306880"/>
        </p:xfrm>
        <a:graphic>
          <a:graphicData uri="http://schemas.openxmlformats.org/drawingml/2006/table">
            <a:tbl>
              <a:tblPr/>
              <a:tblGrid>
                <a:gridCol w="1914480"/>
                <a:gridCol w="1912680"/>
                <a:gridCol w="1914840"/>
              </a:tblGrid>
              <a:tr h="824040">
                <a:tc>
                  <a:txBody>
                    <a:bodyPr lIns="90000" rIns="90000" tIns="150120" bIns="4680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5680">
                <a:tc>
                  <a:txBody>
                    <a:bodyPr lIns="90000" rIns="90000" tIns="1501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501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501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5" name="Text Box 15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Мансур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Мансуровского сельсовета Советского района Курской области на 2020 год и на плановый период 2021 и 2022годы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В.Волжина – Главный бухгалтер  Мансур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Мансур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8e3e6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23, Курская область Советский район с.Мансурово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41-19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41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 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mansurovo46@yandex.ru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Администрация Мансуровского сельсовета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оветского района Курской област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113976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ctr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087640" y="274680"/>
            <a:ext cx="61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ctr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Бюджет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Д е ф и ц и т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превышение расходов над доходам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 р о ф и ц и т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превышение доходов над расходам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сновные характеристики  бюджета Мансуровского сельсовета Советского района Курской области на 2017 год и плановый период 2018 и 2019 годы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28800" y="2060640"/>
          <a:ext cx="7675560" cy="4249800"/>
        </p:xfrm>
        <a:graphic>
          <a:graphicData uri="http://schemas.openxmlformats.org/drawingml/2006/table">
            <a:tbl>
              <a:tblPr/>
              <a:tblGrid>
                <a:gridCol w="1842840"/>
                <a:gridCol w="2016360"/>
                <a:gridCol w="1944720"/>
                <a:gridCol w="1871640"/>
              </a:tblGrid>
              <a:tr h="523800">
                <a:tc>
                  <a:txBody>
                    <a:bodyPr lIns="90000" rIns="90000" tIns="202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68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68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68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480">
                <a:tc>
                  <a:txBody>
                    <a:bodyPr lIns="90000" rIns="90000" tIns="202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96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2020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96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2021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96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2022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25452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193766,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50970,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81129,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25452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566319,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50970,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81129,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25452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372553,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3"/>
          <p:cNvSpPr/>
          <p:nvPr/>
        </p:nvSpPr>
        <p:spPr>
          <a:xfrm>
            <a:off x="403200" y="1297080"/>
            <a:ext cx="2556000" cy="2558880"/>
          </a:xfrm>
          <a:prstGeom prst="ellipse">
            <a:avLst/>
          </a:prstGeom>
          <a:gradFill rotWithShape="0">
            <a:gsLst>
              <a:gs pos="0">
                <a:srgbClr val="d6e0ff"/>
              </a:gs>
              <a:gs pos="100000">
                <a:srgbClr val="3366ff"/>
              </a:gs>
            </a:gsLst>
            <a:lin ang="27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lin ang="189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5427360" y="2637000"/>
            <a:ext cx="88092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 flipV="1">
            <a:off x="4500720" y="3781440"/>
            <a:ext cx="1440" cy="3031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357120"/>
          <a:ext cx="9113760" cy="6859800"/>
        </p:xfrm>
        <a:graphic>
          <a:graphicData uri="http://schemas.openxmlformats.org/drawingml/2006/table">
            <a:tbl>
              <a:tblPr/>
              <a:tblGrid>
                <a:gridCol w="738360"/>
                <a:gridCol w="4863960"/>
                <a:gridCol w="877680"/>
                <a:gridCol w="804960"/>
                <a:gridCol w="1023840"/>
                <a:gridCol w="804960"/>
              </a:tblGrid>
              <a:tr h="217440">
                <a:tc gridSpan="2" rowSpan="2">
                  <a:txBody>
                    <a:bodyPr lIns="90000" rIns="90000" tIns="990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81880">
                <a:tc rowSpan="20">
                  <a:txBody>
                    <a:bodyPr lIns="90000" rIns="90000" tIns="990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rowSpan="3">
                  <a:txBody>
                    <a:bodyPr lIns="36000" rIns="36000" tIns="88200" bIns="360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rowSpan="2">
                  <a:txBody>
                    <a:bodyPr lIns="90000" rIns="90000" tIns="990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труктура расходов бюджета Мансуровского сельсовет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 разделам функциональной классификации на 2020 год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 на плановый период 2021 и 2022 год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1760" y="1071720"/>
          <a:ext cx="6095880" cy="4649760"/>
        </p:xfrm>
        <a:graphic>
          <a:graphicData uri="http://schemas.openxmlformats.org/drawingml/2006/table">
            <a:tbl>
              <a:tblPr/>
              <a:tblGrid>
                <a:gridCol w="696600"/>
                <a:gridCol w="1727280"/>
                <a:gridCol w="1152720"/>
                <a:gridCol w="1295280"/>
                <a:gridCol w="1224000"/>
              </a:tblGrid>
              <a:tr h="520920">
                <a:tc gridSpan="5">
                  <a:txBody>
                    <a:bodyPr lIns="90000" rIns="90000" tIns="151200" bIns="46800" anchor="ctr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1512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512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512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512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512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5360">
                <a:tc>
                  <a:txBody>
                    <a:bodyPr lIns="90000" rIns="90000" tIns="1501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01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66319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097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1129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760">
                <a:tc>
                  <a:txBody>
                    <a:bodyPr lIns="90000" rIns="90000" tIns="1501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01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6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05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05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596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0754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096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2908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1964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56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496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00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02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0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45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17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Мансуровс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7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125360"/>
          <a:ext cx="8240760" cy="5005440"/>
        </p:xfrm>
        <a:graphic>
          <a:graphicData uri="http://schemas.openxmlformats.org/drawingml/2006/table">
            <a:tbl>
              <a:tblPr/>
              <a:tblGrid>
                <a:gridCol w="3382920"/>
                <a:gridCol w="1081080"/>
                <a:gridCol w="503280"/>
                <a:gridCol w="998640"/>
                <a:gridCol w="114120"/>
                <a:gridCol w="544680"/>
                <a:gridCol w="312480"/>
                <a:gridCol w="727200"/>
                <a:gridCol w="576360"/>
              </a:tblGrid>
              <a:tr h="635040">
                <a:tc>
                  <a:txBody>
                    <a:bodyPr lIns="90000" rIns="90000" tIns="220680" bIns="46800" anchor="b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20680" bIns="46800" anchor="b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20680" bIns="46800" anchor="b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20680" bIns="46800" anchor="b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20680" bIns="46800" anchor="b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20680" bIns="46800" anchor="b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960">
                <a:tc rowSpan="2">
                  <a:txBody>
                    <a:bodyPr lIns="90000" rIns="90000" tIns="220680" bIns="46800" anchor="ctr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185760" bIns="46800" anchor="ctr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5760" bIns="46800" anchor="ctr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5760" bIns="46800" anchor="ctr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576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85760" bIns="46800" anchor="ctr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18576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5760" bIns="46800" anchor="ctr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18576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ей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576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92200">
                <a:tc>
                  <a:txBody>
                    <a:bodyPr lIns="36000" rIns="36000" tIns="174960" bIns="36000" anchor="b">
                      <a:noAutofit/>
                    </a:bodyPr>
                    <a:p>
                      <a:pPr marL="343080" indent="-335160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5160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66319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0970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1129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68720">
                <a:tc>
                  <a:txBody>
                    <a:bodyPr lIns="36000" rIns="36000" tIns="149400" bIns="360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71640">
                <a:tc>
                  <a:txBody>
                    <a:bodyPr lIns="36000" rIns="36000" tIns="174960" bIns="360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Мансур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93265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7805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6025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90760">
                <a:tc>
                  <a:txBody>
                    <a:bodyPr lIns="36000" rIns="36000" tIns="174960" bIns="360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3054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3165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5104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Nadezhda</dc:creator>
  <dc:description/>
  <dc:language>en-US</dc:language>
  <cp:lastModifiedBy>Your User Name</cp:lastModifiedBy>
  <cp:lastPrinted>2015-12-29T07:13:55Z</cp:lastPrinted>
  <dcterms:modified xsi:type="dcterms:W3CDTF">2020-03-19T18:23:41Z</dcterms:modified>
  <cp:revision>496</cp:revision>
  <dc:subject/>
  <dc:title>Слайд 1</dc:title>
</cp:coreProperties>
</file>