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7830-CCFE-4844-A622-407112D059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A47F7-F62B-4F1D-818B-D880877474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7DFDA-8CBD-4A3B-8711-6AB875285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20BD7-DB56-4B4C-B266-DE674AC2A6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9224-A0AD-4A9D-B05E-21C0AB1307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D024C-809F-43DA-826C-D5852D4F46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EBE16-7A77-40D2-8158-A4CAC548115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AE4E5-29EA-422C-A55E-C36AB7387A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20876-B01C-41AF-8F10-022CEBD70A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ABC9C-6652-49DD-AA12-C2218D121C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D840D-2E16-486D-B4AA-BC1C49FBAC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841BD-BE96-4440-9850-095925C98E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8F76F-1BD6-49FB-9C81-2214A5EA29E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CB8ED-2851-4D80-BFEE-A68E990900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DE50E-FC1C-42DF-A1B1-4BDDC8ADF2D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296BC-CF9C-4B0F-8C9D-EDD9D23D4D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C41A-78B7-4D35-B97A-4A65BBA5F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005E-8EA0-4191-9D2D-3A1B9ABD8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95A6-25F8-461E-A75D-602798255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1EB8-28D7-4229-9E1A-EF9B062CC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8CCB-E232-4354-945E-5BDE97A0C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AE8F-545A-42C7-82B3-F01FA42CC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B836-370D-443A-9060-BC7A7D990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7684-124C-46C9-A1E2-2183E9CEF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3BEA-EA97-492F-B547-0F387D71A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C96B-E469-4D31-85C5-35690BB9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2980-0C75-4DD8-9926-955FF843E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4126-8259-483B-A7AC-F15C9EDBE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C91718-58D5-44E2-B1A1-BBC479D87B37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МАНСУРОВС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Мансуров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6.12.2015 года №16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Мансуровского сельсовета Советского района  Курской области на 2016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Мансур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6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34512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Мансур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225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2254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Мансур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6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Мансуровского сельсовета Советского района Курской области – 1472258,0 рублей, 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773360"/>
          <a:ext cx="8232840" cy="4259160"/>
        </p:xfrm>
        <a:graphic>
          <a:graphicData uri="http://schemas.openxmlformats.org/drawingml/2006/table">
            <a:tbl>
              <a:tblPr/>
              <a:tblGrid>
                <a:gridCol w="6675480"/>
                <a:gridCol w="155736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Мансуровский сельсовет» Советского района Курской области на 2015-2017 годы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0343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униципальном образовании «Мансуровский сельсовет» Советского района Курской области на 2015-2017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76915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Обеспечение качественными жилищно-коммунальными услугами населения в муниципальном образованиии «Мансуровский селоьсовет»  Советского района Курской области  на 2015-2017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770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Муниципальная программа «Повышение эффективности работы с молодежью, организация отдыха и оздоровления детей, молодежи, развитие физической культуры и спорта» в  муниципальном образовании «Мансуровский сельсовет» Советского района Курской области на 2015-20 17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муниципальной службы  в Мансуровском сельсовете  Советского района  Курской области на 2015-2017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0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55"/>
          <p:cNvSpPr/>
          <p:nvPr/>
        </p:nvSpPr>
        <p:spPr>
          <a:xfrm>
            <a:off x="611280" y="6383160"/>
            <a:ext cx="821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Краснодолин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Мансуровского сельсовета Советского района Курской области –1472258,0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00040" y="2071800"/>
          <a:ext cx="8232840" cy="380988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1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нсуровский сельсовет» Советского района Курской области на 2015-2017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0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 администрации Мансуровского сельсовета Советского района Курской области на 2015-2017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0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Муниципальная программа «Развитие и использование информационных и телекоммуникационных технологий в сохранении и развитии традиционной народной сельской культуры Мансуровского сельсовета Советского района Курской области на 2015- 2017 годы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0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Мансур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8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н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Мансуровского сельсовета Советского района Курской области на 2016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В. Волжина– начальник отдела бухгалтерского учета и отчетности Мансур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Мансур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3, Курская область, Советский район, с. Мансурово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Мансур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1-19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1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mansurovo46@yandex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Мансуровского сельсовета Советского района Курской области              на 2016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615512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34512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1900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403200" y="1297080"/>
            <a:ext cx="2556000" cy="2558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Мансур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16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472248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34512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4105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7149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46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2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91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00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343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2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Диаграмма 1"/>
          <p:cNvGraphicFramePr/>
          <p:nvPr/>
        </p:nvGraphicFramePr>
        <p:xfrm>
          <a:off x="855720" y="712800"/>
          <a:ext cx="767088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712800"/>
                    <a:ext cx="767088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Nadezhda</dc:creator>
  <dc:description/>
  <dc:language>en-US</dc:language>
  <cp:lastModifiedBy>Admin</cp:lastModifiedBy>
  <cp:lastPrinted>2015-12-29T07:13:55Z</cp:lastPrinted>
  <dcterms:modified xsi:type="dcterms:W3CDTF">2015-12-31T08:36:57Z</dcterms:modified>
  <cp:revision>486</cp:revision>
  <dc:subject/>
  <dc:title>Слайд 1</dc:title>
</cp:coreProperties>
</file>