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7920" cy="37148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0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72D3-1E32-459D-A7C6-111EB055C9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71CFB-0D4E-4FFF-8DA5-39669C8E5C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FFB9-DBD7-4CD6-B83D-62FB3BE0D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CA04-C6D1-4E0C-98B7-5A355CA76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1EE9D-7800-4DFB-88A1-AA724CB4BB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303C0-4F64-412F-A14E-3F0C0E4197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D901A-F6AD-4DA4-88EB-B43D1621BA7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6DC4D-83B1-4EBC-AE2C-AE2999C46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6F96F-1640-4BFC-9CBD-BAE9165D14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234C8-F332-4E09-9CF4-44125FDF3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A55F6-7705-48D9-9B88-BBB08D83E6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117B2-A624-473B-BA32-FE4FDA60A8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C8A49-2C71-44F1-83FE-BE004F23BC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4EE6F-FCB2-413D-8453-13F8437A94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2F6A8-1A57-4FC5-8AFF-3B8BFD803A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981C8-EA93-49DA-952B-60AF65FD1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D4742-6BFA-4279-9E2B-8FBA17B467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47FA3-EF7B-466C-94E8-AF465A909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6897-2C32-4371-9065-2FE0DF17B9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69DDC-12F2-4EF4-A608-1731CC156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AB69D-D9EC-4E4B-B018-E711D0629FB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3D58F-4611-4833-8F99-7F6EE86CC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725ED-0093-4565-9A79-92732562919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C6312-4B87-45E1-937E-1430B6B62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6020D-D24F-4A45-AF79-77252453C60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3286B-658B-4C0D-8CF1-86375766E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E630-608F-4063-94D6-804050C7268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FC739-C0FC-41DF-80DA-6B1CCFD43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0BEE-DC73-4A55-885F-1B095501E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12B7-D88B-495E-B175-AA801FE7F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57DB-E222-4269-9693-440BD85A4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9F57-03DE-4D82-9EE9-F0EBD0643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10E8-9A13-4718-9990-25970B555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40F4-D118-47C1-8C08-F85BC950F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0A76-D5EC-4DA5-BE7F-F405D55AF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6DAD-6A1F-445F-8F90-B4D4544C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5907-40E6-40EA-9A04-6E3F7E196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F202-2081-40FC-9C86-741CD3B9B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22F6-D414-433D-8D4C-8F601969D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E388-CFB8-4330-AF3B-77CF1902D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ECC6CD-9F1C-4E16-87F1-B7A72DFB7719}" type="slidenum"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БЮДЖЕТ ДЛЯ ГРАЖДАН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МАНСУРОВСКОГО СЕЛЬСОВЕТА 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503280" y="4508640"/>
            <a:ext cx="835344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К решению Собрания  депутатов  Мансуровского  сельсовета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Советского района Курской области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т 27.12.2019 года № 27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«О бюджете Мансуровского сельсовета на 2019 год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 на  плановый период 2020 и 2021 годы»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468360" y="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Мансуровского сельсовета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и на  плановый период 2020 и 2021 годы в разрезе муниципальных программ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571680" y="785880"/>
            <a:ext cx="8269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907920"/>
          <a:ext cx="6127920" cy="5761080"/>
        </p:xfrm>
        <a:graphic>
          <a:graphicData uri="http://schemas.openxmlformats.org/drawingml/2006/table">
            <a:tbl>
              <a:tblPr/>
              <a:tblGrid>
                <a:gridCol w="5195880"/>
                <a:gridCol w="932040"/>
              </a:tblGrid>
              <a:tr h="671760">
                <a:tc>
                  <a:txBody>
                    <a:bodyPr lIns="90000" rIns="90000" tIns="1688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6884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за 2019г.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39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на 2018-2022 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490347,8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 «Энергосбережение и повышение энергетической эффективности в муниципальном образовании «Мансуровский сельсовет» Советского района Курской области на 2018-2022годы»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-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Благоустройство территории муниципального образования «Мансуровский сельсовет» Советского района Курской области на 2018-2022 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 Муниципальная программа «Развитие муниципальной службы в муниципальном образовании «Мансуровский сельсовет» Советского района Курской области  на 2018-2022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78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 Мансуровский сельсовет Советского района Курской области на 2018-2022годы»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0000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Муниципальная программа «Развитие и использование информационных и телекомуникационных технологий в муниципальном образовании «Мансуровский сельсовет» Советского района Курской области на 2018-2022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6028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Муниципальная программа « Развитие и укрепление материально-технической базы муниципального образования «Мансуровский сельсовет» Советского района Курской области на 2016-2020годы»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979829,35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16776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556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0000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Мансур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14720" y="3786120"/>
          <a:ext cx="2573280" cy="230688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82404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568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5" name="Text Box 15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Мансур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Мансуровского сельсовета Советского района Курской области на 2019 год и на плановый период 2020 и 2021годы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В.Волжина – Главный бухгалтер  Мансур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Мансу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3, Курская область Советский район с.Мансурово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1-19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1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 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mansurovo46@yandex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Администрация Марсуровского сельсовета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оветского района Курской област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13976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ctr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87640" y="274680"/>
            <a:ext cx="61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 algn="ctr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Бюджет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 е ф и ц и т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ревышение расходов над доходам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П р о ф и ц и т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ревышение доходов над расходам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516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сновные характеристики  бюджета Мансуровского сельсовета Советского района Курской области на 2019 год и плановый период 2020 и 2021 годы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28800" y="2060640"/>
          <a:ext cx="5803920" cy="4249800"/>
        </p:xfrm>
        <a:graphic>
          <a:graphicData uri="http://schemas.openxmlformats.org/drawingml/2006/table">
            <a:tbl>
              <a:tblPr/>
              <a:tblGrid>
                <a:gridCol w="1842840"/>
                <a:gridCol w="2016360"/>
                <a:gridCol w="1944720"/>
              </a:tblGrid>
              <a:tr h="523800">
                <a:tc>
                  <a:txBody>
                    <a:bodyPr lIns="90000" rIns="90000" tIns="2023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90000" rIns="90000" tIns="2023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96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2019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196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 за 2019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55112,5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55112,5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314118,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314118,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254520" bIns="46800" anchor="ctr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+540994,4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023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+540994,4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3"/>
          <p:cNvSpPr/>
          <p:nvPr/>
        </p:nvSpPr>
        <p:spPr>
          <a:xfrm>
            <a:off x="403200" y="1297080"/>
            <a:ext cx="2556000" cy="255888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5427360" y="2637000"/>
            <a:ext cx="88092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V="1">
            <a:off x="4500720" y="3781440"/>
            <a:ext cx="1440" cy="3031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357120"/>
          <a:ext cx="9113760" cy="6859800"/>
        </p:xfrm>
        <a:graphic>
          <a:graphicData uri="http://schemas.openxmlformats.org/drawingml/2006/table">
            <a:tbl>
              <a:tblPr/>
              <a:tblGrid>
                <a:gridCol w="738360"/>
                <a:gridCol w="4863960"/>
                <a:gridCol w="877680"/>
                <a:gridCol w="804960"/>
                <a:gridCol w="1023840"/>
                <a:gridCol w="804960"/>
              </a:tblGrid>
              <a:tr h="217440">
                <a:tc gridSpan="2" rowSpan="2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9900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81880">
                <a:tc rowSpan="20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28160" bIns="468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3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rowSpan="3">
                  <a:txBody>
                    <a:bodyPr lIns="36000" rIns="36000" tIns="88200" bIns="360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rowSpan="2">
                  <a:txBody>
                    <a:bodyPr lIns="90000" rIns="90000" tIns="990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764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0764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труктура расходов бюджета Мансуровского сельсовет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о разделам функциональной классификации на 2019 год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на плановый период 2020 и 2021 годы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1760" y="1071720"/>
          <a:ext cx="3576600" cy="4649760"/>
        </p:xfrm>
        <a:graphic>
          <a:graphicData uri="http://schemas.openxmlformats.org/drawingml/2006/table">
            <a:tbl>
              <a:tblPr/>
              <a:tblGrid>
                <a:gridCol w="696600"/>
                <a:gridCol w="1727280"/>
                <a:gridCol w="1152720"/>
              </a:tblGrid>
              <a:tr h="520920">
                <a:tc gridSpan="3">
                  <a:txBody>
                    <a:bodyPr lIns="90000" rIns="90000" tIns="151200" bIns="46800" anchor="ctr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5120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536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14118,1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760">
                <a:tc>
                  <a:txBody>
                    <a:bodyPr lIns="90000" rIns="90000" tIns="150120" bIns="46800" anchor="t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0120" bIns="46800" anchor="t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33005,57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596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81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1964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56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9646,81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30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151200" bIns="46800" anchor="b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51200" bIns="46800" anchor="b">
                      <a:noAutofit/>
                    </a:bodyPr>
                    <a:p>
                      <a:pPr algn="r">
                        <a:lnSpc>
                          <a:spcPct val="78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0347,80</a:t>
                      </a:r>
                      <a:endParaRPr b="1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Мансуровс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125360"/>
          <a:ext cx="4967280" cy="4897440"/>
        </p:xfrm>
        <a:graphic>
          <a:graphicData uri="http://schemas.openxmlformats.org/drawingml/2006/table">
            <a:tbl>
              <a:tblPr/>
              <a:tblGrid>
                <a:gridCol w="3382920"/>
                <a:gridCol w="1081080"/>
                <a:gridCol w="503280"/>
              </a:tblGrid>
              <a:tr h="610920">
                <a:tc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20680" bIns="46800" anchor="b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960">
                <a:tc rowSpan="2">
                  <a:txBody>
                    <a:bodyPr lIns="90000" rIns="90000" tIns="22068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185760" bIns="46800" anchor="ctr">
                      <a:noAutofit/>
                    </a:bodyPr>
                    <a:p>
                      <a:pPr marL="343080" indent="-335160" algn="ct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90760">
                <a:tc>
                  <a:txBody>
                    <a:bodyPr lIns="36000" rIns="36000" tIns="174960" bIns="36000" anchor="b">
                      <a:noAutofit/>
                    </a:bodyPr>
                    <a:p>
                      <a:pPr marL="343080" indent="-335160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5160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14118,1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7520">
                <a:tc>
                  <a:txBody>
                    <a:bodyPr lIns="36000" rIns="36000" tIns="14940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70200">
                <a:tc>
                  <a:txBody>
                    <a:bodyPr lIns="36000" rIns="36000" tIns="17496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Мансур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0971,9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90760">
                <a:tc>
                  <a:txBody>
                    <a:bodyPr lIns="36000" rIns="36000" tIns="174960" bIns="36000" anchor="b">
                      <a:noAutofit/>
                    </a:bodyPr>
                    <a:p>
                      <a:pPr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3146,2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158040" bIns="36000" anchor="b">
                      <a:noAutofit/>
                    </a:bodyPr>
                    <a:p>
                      <a:pPr marL="343080" indent="-335160" algn="r">
                        <a:lnSpc>
                          <a:spcPct val="7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Nadezhda</dc:creator>
  <dc:description/>
  <dc:language>en-US</dc:language>
  <cp:lastModifiedBy>Алексеева</cp:lastModifiedBy>
  <cp:lastPrinted>2015-12-29T07:13:55Z</cp:lastPrinted>
  <dcterms:modified xsi:type="dcterms:W3CDTF">2021-02-26T10:33:05Z</dcterms:modified>
  <cp:revision>501</cp:revision>
  <dc:subject/>
  <dc:title>Слайд 1</dc:title>
</cp:coreProperties>
</file>